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1634-610A-437F-8FEC-DDE32B3A7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F924-16F7-4976-8FF5-93B30102D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963D-45E9-4BD1-8F4D-85646A883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B848-0DE6-402C-9154-C1A753347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78BE-1323-40C3-B276-2C2590242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319D-A929-4E60-8BEA-714C9C880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9396-9EFB-4DCE-8521-107ADD2FA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5AC6-0903-4C7D-B87F-1D4C63CCE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2EB5-D637-48A9-A177-42343C6EE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66E4-52B8-49C2-BCD6-73DFA64A6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22B1-F341-427A-B51C-CFA39B1E7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653E-C4D9-441E-B2F9-86199FDF4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641BA-C73F-4D7A-8074-9BAF5A9D66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Vícerozměrné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ynamické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ole pointer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37432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 *p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[3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979640" y="2708280"/>
            <a:ext cx="1584360" cy="649440"/>
            <a:chOff x="1979640" y="2708280"/>
            <a:chExt cx="1584360" cy="649440"/>
          </a:xfrm>
        </p:grpSpPr>
        <p:sp>
          <p:nvSpPr>
            <p:cNvPr id="45" name=""/>
            <p:cNvSpPr/>
            <p:nvPr/>
          </p:nvSpPr>
          <p:spPr>
            <a:xfrm>
              <a:off x="1979640" y="2708280"/>
              <a:ext cx="527040" cy="649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509560" y="2708280"/>
              <a:ext cx="527040" cy="649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036960" y="2708280"/>
              <a:ext cx="527040" cy="649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3780000" y="1484280"/>
            <a:ext cx="0" cy="4824360"/>
          </a:xfrm>
          <a:prstGeom prst="line">
            <a:avLst/>
          </a:prstGeom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71640" y="1916280"/>
            <a:ext cx="457200" cy="571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97440" y="566100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Tahoma"/>
              </a:rPr>
              <a:t>Zásobní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065480" y="566100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Tahoma"/>
              </a:rPr>
              <a:t>Hal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184464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835280" y="2349360"/>
            <a:ext cx="1866240" cy="382680"/>
            <a:chOff x="1835280" y="2349360"/>
            <a:chExt cx="1866240" cy="382680"/>
          </a:xfrm>
        </p:grpSpPr>
        <p:sp>
          <p:nvSpPr>
            <p:cNvPr id="54" name=""/>
            <p:cNvSpPr/>
            <p:nvPr/>
          </p:nvSpPr>
          <p:spPr>
            <a:xfrm>
              <a:off x="1835280" y="2349360"/>
              <a:ext cx="72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[0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15960" y="2363760"/>
              <a:ext cx="72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[1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981160" y="2357280"/>
              <a:ext cx="72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[2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4356000" y="148428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[0]=(int*)malloc(sizeof(int)*5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56000" y="1916280"/>
            <a:ext cx="41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[1]=(int*)malloc(sizeof(int)*3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363920" y="236844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[2]=(int*)malloc(sizeof(int)*4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4500720" y="4869000"/>
            <a:ext cx="2286000" cy="571320"/>
            <a:chOff x="4500720" y="4869000"/>
            <a:chExt cx="2286000" cy="571320"/>
          </a:xfrm>
        </p:grpSpPr>
        <p:grpSp>
          <p:nvGrpSpPr>
            <p:cNvPr id="61" name=""/>
            <p:cNvGrpSpPr/>
            <p:nvPr/>
          </p:nvGrpSpPr>
          <p:grpSpPr>
            <a:xfrm>
              <a:off x="4500720" y="4869000"/>
              <a:ext cx="1373400" cy="571320"/>
              <a:chOff x="4500720" y="4869000"/>
              <a:chExt cx="1373400" cy="571320"/>
            </a:xfrm>
          </p:grpSpPr>
          <p:sp>
            <p:nvSpPr>
              <p:cNvPr id="62" name=""/>
              <p:cNvSpPr/>
              <p:nvPr/>
            </p:nvSpPr>
            <p:spPr>
              <a:xfrm>
                <a:off x="4500720" y="4869000"/>
                <a:ext cx="456840" cy="5713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960080" y="4869000"/>
                <a:ext cx="456840" cy="5713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417280" y="4869000"/>
                <a:ext cx="456840" cy="5713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29520" y="4869000"/>
              <a:ext cx="457200" cy="5713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872320" y="4869000"/>
              <a:ext cx="457200" cy="5713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67" name=""/>
          <p:cNvCxnSpPr/>
          <p:nvPr/>
        </p:nvCxnSpPr>
        <p:spPr>
          <a:xfrm>
            <a:off x="1441440" y="2201400"/>
            <a:ext cx="526320" cy="616680"/>
          </a:xfrm>
          <a:prstGeom prst="bentConnector3">
            <a:avLst>
              <a:gd name="adj1" fmla="val 49828"/>
            </a:avLst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68" name=""/>
          <p:cNvCxnSpPr>
            <a:stCxn id="46" idx="2"/>
            <a:endCxn id="69" idx="1"/>
          </p:cNvCxnSpPr>
          <p:nvPr/>
        </p:nvCxnSpPr>
        <p:spPr>
          <a:xfrm flipH="1" rot="16200000">
            <a:off x="3110760" y="3031920"/>
            <a:ext cx="978480" cy="165492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70" name=""/>
          <p:cNvCxnSpPr>
            <a:stCxn id="45" idx="2"/>
            <a:endCxn id="62" idx="1"/>
          </p:cNvCxnSpPr>
          <p:nvPr/>
        </p:nvCxnSpPr>
        <p:spPr>
          <a:xfrm flipH="1" rot="16200000">
            <a:off x="2472480" y="3139920"/>
            <a:ext cx="1784880" cy="224532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71" name=""/>
          <p:cNvCxnSpPr>
            <a:stCxn id="47" idx="2"/>
            <a:endCxn id="72" idx="1"/>
          </p:cNvCxnSpPr>
          <p:nvPr/>
        </p:nvCxnSpPr>
        <p:spPr>
          <a:xfrm flipH="1" rot="16200000">
            <a:off x="3756600" y="2912760"/>
            <a:ext cx="200520" cy="111492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grpSp>
        <p:nvGrpSpPr>
          <p:cNvPr id="73" name=""/>
          <p:cNvGrpSpPr/>
          <p:nvPr/>
        </p:nvGrpSpPr>
        <p:grpSpPr>
          <a:xfrm>
            <a:off x="4427640" y="4076640"/>
            <a:ext cx="1373040" cy="571680"/>
            <a:chOff x="4427640" y="4076640"/>
            <a:chExt cx="1373040" cy="571680"/>
          </a:xfrm>
        </p:grpSpPr>
        <p:sp>
          <p:nvSpPr>
            <p:cNvPr id="74" name=""/>
            <p:cNvSpPr/>
            <p:nvPr/>
          </p:nvSpPr>
          <p:spPr>
            <a:xfrm>
              <a:off x="4427640" y="4076640"/>
              <a:ext cx="456840" cy="5716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886640" y="4076640"/>
              <a:ext cx="456840" cy="5716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43840" y="4076640"/>
              <a:ext cx="456840" cy="5716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4427640" y="3284640"/>
            <a:ext cx="1828800" cy="571320"/>
            <a:chOff x="4427640" y="3284640"/>
            <a:chExt cx="1828800" cy="571320"/>
          </a:xfrm>
        </p:grpSpPr>
        <p:grpSp>
          <p:nvGrpSpPr>
            <p:cNvPr id="78" name=""/>
            <p:cNvGrpSpPr/>
            <p:nvPr/>
          </p:nvGrpSpPr>
          <p:grpSpPr>
            <a:xfrm>
              <a:off x="4427640" y="3284640"/>
              <a:ext cx="1373400" cy="571320"/>
              <a:chOff x="4427640" y="3284640"/>
              <a:chExt cx="1373400" cy="571320"/>
            </a:xfrm>
          </p:grpSpPr>
          <p:sp>
            <p:nvSpPr>
              <p:cNvPr id="72" name=""/>
              <p:cNvSpPr/>
              <p:nvPr/>
            </p:nvSpPr>
            <p:spPr>
              <a:xfrm>
                <a:off x="4427640" y="3284640"/>
                <a:ext cx="456840" cy="5713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887000" y="3284640"/>
                <a:ext cx="457200" cy="5713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344200" y="3284640"/>
                <a:ext cx="456840" cy="5713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>
              <a:off x="5799240" y="3284640"/>
              <a:ext cx="457200" cy="5713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7020000" y="321300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ee(p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20000" y="35733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ee(p[1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20000" y="393372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ee(p[2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93080" y="458136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[0]=NUL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093080" y="494172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[1]=NUL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093080" y="530064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[2]=NUL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386064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[0][2]=64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35640" y="494172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436572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[1][0]=57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27640" y="414972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79640" y="1773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993300"/>
                </a:solidFill>
                <a:latin typeface="Tahoma"/>
              </a:rPr>
              <a:t>p</a:t>
            </a:r>
            <a:r>
              <a:rPr b="0" lang="en-US" sz="1800" spc="-1" strike="noStrike">
                <a:solidFill>
                  <a:srgbClr val="993300"/>
                </a:solidFill>
                <a:latin typeface="Tahoma"/>
              </a:rPr>
              <a:t>o</a:t>
            </a:r>
            <a:r>
              <a:rPr b="0" lang="cs-CZ" sz="1800" spc="-1" strike="noStrike">
                <a:solidFill>
                  <a:srgbClr val="993300"/>
                </a:solidFill>
                <a:latin typeface="Tahoma"/>
              </a:rPr>
              <a:t>čet řádk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 flipV="1">
            <a:off x="1834920" y="1483920"/>
            <a:ext cx="360360" cy="360360"/>
          </a:xfrm>
          <a:prstGeom prst="line">
            <a:avLst/>
          </a:prstGeom>
          <a:ln w="19080">
            <a:solidFill>
              <a:srgbClr val="9933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2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6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8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2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4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6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8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0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ahoma"/>
              </a:rPr>
              <a:t>Po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ter na po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627280" y="1773360"/>
            <a:ext cx="0" cy="4535280"/>
          </a:xfrm>
          <a:prstGeom prst="line">
            <a:avLst/>
          </a:prstGeom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87280" y="2708280"/>
            <a:ext cx="457200" cy="571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17800" y="566100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Tahoma"/>
              </a:rPr>
              <a:t>Zásobní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841480" y="566100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Tahoma"/>
              </a:rPr>
              <a:t>Hal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5640" y="27082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1052640"/>
            <a:ext cx="3743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 (*p)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[4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>
            <a:stCxn id="95" idx="3"/>
            <a:endCxn id="101" idx="1"/>
          </p:cNvCxnSpPr>
          <p:nvPr/>
        </p:nvCxnSpPr>
        <p:spPr>
          <a:xfrm>
            <a:off x="1657080" y="2994120"/>
            <a:ext cx="1246680" cy="1008720"/>
          </a:xfrm>
          <a:prstGeom prst="bentConnector3">
            <a:avLst>
              <a:gd name="adj1" fmla="val 49913"/>
            </a:avLst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grpSp>
        <p:nvGrpSpPr>
          <p:cNvPr id="102" name=""/>
          <p:cNvGrpSpPr/>
          <p:nvPr/>
        </p:nvGrpSpPr>
        <p:grpSpPr>
          <a:xfrm>
            <a:off x="2916360" y="3284640"/>
            <a:ext cx="5530680" cy="1512720"/>
            <a:chOff x="2916360" y="3284640"/>
            <a:chExt cx="5530680" cy="1512720"/>
          </a:xfrm>
        </p:grpSpPr>
        <p:grpSp>
          <p:nvGrpSpPr>
            <p:cNvPr id="103" name=""/>
            <p:cNvGrpSpPr/>
            <p:nvPr/>
          </p:nvGrpSpPr>
          <p:grpSpPr>
            <a:xfrm>
              <a:off x="4767480" y="3716280"/>
              <a:ext cx="1828800" cy="571680"/>
              <a:chOff x="4767480" y="3716280"/>
              <a:chExt cx="1828800" cy="571680"/>
            </a:xfrm>
          </p:grpSpPr>
          <p:grpSp>
            <p:nvGrpSpPr>
              <p:cNvPr id="104" name=""/>
              <p:cNvGrpSpPr/>
              <p:nvPr/>
            </p:nvGrpSpPr>
            <p:grpSpPr>
              <a:xfrm>
                <a:off x="4767480" y="3716280"/>
                <a:ext cx="1373400" cy="571680"/>
                <a:chOff x="4767480" y="3716280"/>
                <a:chExt cx="1373400" cy="57168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4767480" y="3716280"/>
                  <a:ext cx="456840" cy="57168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5226840" y="3716280"/>
                  <a:ext cx="457200" cy="57168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5684040" y="3716280"/>
                  <a:ext cx="456840" cy="57168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6139080" y="3716280"/>
                <a:ext cx="457200" cy="5716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2916360" y="3716280"/>
              <a:ext cx="1828800" cy="571680"/>
              <a:chOff x="2916360" y="3716280"/>
              <a:chExt cx="1828800" cy="571680"/>
            </a:xfrm>
          </p:grpSpPr>
          <p:grpSp>
            <p:nvGrpSpPr>
              <p:cNvPr id="110" name=""/>
              <p:cNvGrpSpPr/>
              <p:nvPr/>
            </p:nvGrpSpPr>
            <p:grpSpPr>
              <a:xfrm>
                <a:off x="2916360" y="3716280"/>
                <a:ext cx="1373400" cy="571680"/>
                <a:chOff x="2916360" y="3716280"/>
                <a:chExt cx="1373400" cy="57168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2916360" y="3716280"/>
                  <a:ext cx="456840" cy="57168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3375720" y="3716280"/>
                  <a:ext cx="457200" cy="57168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3832920" y="3716280"/>
                  <a:ext cx="456840" cy="57168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" name=""/>
              <p:cNvSpPr/>
              <p:nvPr/>
            </p:nvSpPr>
            <p:spPr>
              <a:xfrm>
                <a:off x="4287960" y="3716280"/>
                <a:ext cx="457200" cy="5716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6618240" y="3716280"/>
              <a:ext cx="1828800" cy="571680"/>
              <a:chOff x="6618240" y="3716280"/>
              <a:chExt cx="1828800" cy="571680"/>
            </a:xfrm>
          </p:grpSpPr>
          <p:grpSp>
            <p:nvGrpSpPr>
              <p:cNvPr id="115" name=""/>
              <p:cNvGrpSpPr/>
              <p:nvPr/>
            </p:nvGrpSpPr>
            <p:grpSpPr>
              <a:xfrm>
                <a:off x="6618240" y="3716280"/>
                <a:ext cx="1373400" cy="571680"/>
                <a:chOff x="6618240" y="3716280"/>
                <a:chExt cx="1373400" cy="57168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6618240" y="3716280"/>
                  <a:ext cx="456840" cy="57168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7077600" y="3716280"/>
                  <a:ext cx="457200" cy="57168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7534800" y="3716280"/>
                  <a:ext cx="456840" cy="57168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" name=""/>
              <p:cNvSpPr/>
              <p:nvPr/>
            </p:nvSpPr>
            <p:spPr>
              <a:xfrm>
                <a:off x="7989840" y="3716280"/>
                <a:ext cx="457200" cy="5716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4754520" y="3284640"/>
              <a:ext cx="0" cy="143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604200" y="3357720"/>
              <a:ext cx="0" cy="143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3492360" y="2133720"/>
            <a:ext cx="44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=(int(*)[4])malloc(sizeof(int)*3*4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4360" y="1916280"/>
            <a:ext cx="172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3300"/>
                </a:solidFill>
                <a:latin typeface="Tahoma"/>
              </a:rPr>
              <a:t>p</a:t>
            </a:r>
            <a:r>
              <a:rPr b="0" lang="en-US" sz="2000" spc="-1" strike="noStrike">
                <a:solidFill>
                  <a:srgbClr val="993300"/>
                </a:solidFill>
                <a:latin typeface="Tahoma"/>
              </a:rPr>
              <a:t>o</a:t>
            </a:r>
            <a:r>
              <a:rPr b="0" lang="cs-CZ" sz="2000" spc="-1" strike="noStrike">
                <a:solidFill>
                  <a:srgbClr val="993300"/>
                </a:solidFill>
                <a:latin typeface="Tahoma"/>
              </a:rPr>
              <a:t>čet sloupc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547640" y="1484280"/>
            <a:ext cx="648000" cy="504720"/>
          </a:xfrm>
          <a:prstGeom prst="line">
            <a:avLst/>
          </a:prstGeom>
          <a:ln w="19080">
            <a:solidFill>
              <a:srgbClr val="9933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859280" y="1268280"/>
            <a:ext cx="172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3300"/>
                </a:solidFill>
                <a:latin typeface="Tahoma"/>
              </a:rPr>
              <a:t>p</a:t>
            </a:r>
            <a:r>
              <a:rPr b="0" lang="en-US" sz="2000" spc="-1" strike="noStrike">
                <a:solidFill>
                  <a:srgbClr val="993300"/>
                </a:solidFill>
                <a:latin typeface="Tahoma"/>
              </a:rPr>
              <a:t>o</a:t>
            </a:r>
            <a:r>
              <a:rPr b="0" lang="cs-CZ" sz="2000" spc="-1" strike="noStrike">
                <a:solidFill>
                  <a:srgbClr val="993300"/>
                </a:solidFill>
                <a:latin typeface="Tahoma"/>
              </a:rPr>
              <a:t>čet sloupc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020000" y="285264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3300"/>
                </a:solidFill>
                <a:latin typeface="Tahoma"/>
              </a:rPr>
              <a:t>p</a:t>
            </a:r>
            <a:r>
              <a:rPr b="0" lang="en-US" sz="2000" spc="-1" strike="noStrike">
                <a:solidFill>
                  <a:srgbClr val="993300"/>
                </a:solidFill>
                <a:latin typeface="Tahoma"/>
              </a:rPr>
              <a:t>o</a:t>
            </a:r>
            <a:r>
              <a:rPr b="0" lang="cs-CZ" sz="2000" spc="-1" strike="noStrike">
                <a:solidFill>
                  <a:srgbClr val="993300"/>
                </a:solidFill>
                <a:latin typeface="Tahoma"/>
              </a:rPr>
              <a:t>čet řád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7179840" y="2412720"/>
            <a:ext cx="631800" cy="584280"/>
          </a:xfrm>
          <a:prstGeom prst="line">
            <a:avLst/>
          </a:prstGeom>
          <a:ln w="19080">
            <a:solidFill>
              <a:srgbClr val="9933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24360" y="1628640"/>
            <a:ext cx="1727280" cy="576360"/>
          </a:xfrm>
          <a:prstGeom prst="line">
            <a:avLst/>
          </a:prstGeom>
          <a:ln w="19080">
            <a:solidFill>
              <a:srgbClr val="9933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4787640" y="1628640"/>
            <a:ext cx="936360" cy="576360"/>
          </a:xfrm>
          <a:prstGeom prst="line">
            <a:avLst/>
          </a:prstGeom>
          <a:ln w="19080">
            <a:solidFill>
              <a:srgbClr val="9933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414972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[0][2]=64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80960" y="457668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[1][0]=57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1600" y="501336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[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[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=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9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51280" y="378936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788000" y="378936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699160" y="378936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76720" y="494172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ee(p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76720" y="537372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=NUL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0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4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8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2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4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ahoma"/>
              </a:rPr>
              <a:t>Po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ter na po</a:t>
            </a:r>
            <a:r>
              <a:rPr b="1" lang="cs-CZ" sz="3600" spc="-1" strike="noStrike">
                <a:solidFill>
                  <a:srgbClr val="000000"/>
                </a:solidFill>
                <a:latin typeface="Tahoma"/>
              </a:rPr>
              <a:t>in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979640" y="2492280"/>
            <a:ext cx="1584360" cy="649440"/>
            <a:chOff x="1979640" y="2492280"/>
            <a:chExt cx="1584360" cy="649440"/>
          </a:xfrm>
        </p:grpSpPr>
        <p:sp>
          <p:nvSpPr>
            <p:cNvPr id="140" name=""/>
            <p:cNvSpPr/>
            <p:nvPr/>
          </p:nvSpPr>
          <p:spPr>
            <a:xfrm>
              <a:off x="1979640" y="2492280"/>
              <a:ext cx="527040" cy="649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509560" y="2492280"/>
              <a:ext cx="527040" cy="649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036960" y="2492280"/>
              <a:ext cx="527040" cy="649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1403280" y="1700280"/>
            <a:ext cx="0" cy="4608360"/>
          </a:xfrm>
          <a:prstGeom prst="line">
            <a:avLst/>
          </a:prstGeom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4360" y="1844640"/>
            <a:ext cx="457200" cy="571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9800" y="580536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Tahoma"/>
              </a:rPr>
              <a:t>Zásobní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45840" y="580536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Tahoma"/>
              </a:rPr>
              <a:t>Hal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5280" y="1773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908000" y="2060640"/>
            <a:ext cx="1866960" cy="382680"/>
            <a:chOff x="1908000" y="2060640"/>
            <a:chExt cx="1866960" cy="382680"/>
          </a:xfrm>
        </p:grpSpPr>
        <p:sp>
          <p:nvSpPr>
            <p:cNvPr id="149" name=""/>
            <p:cNvSpPr/>
            <p:nvPr/>
          </p:nvSpPr>
          <p:spPr>
            <a:xfrm>
              <a:off x="1908000" y="206064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[0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89040" y="207504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[1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054240" y="206856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[2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4211640" y="198900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[0]=(int*)malloc(sizeof(int)*5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211640" y="2421000"/>
            <a:ext cx="41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[1]=(int*)malloc(sizeof(int)*3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19560" y="287352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[2]=(int*)malloc(sizeof(int)*4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3780000" y="5013360"/>
            <a:ext cx="2286000" cy="571320"/>
            <a:chOff x="3780000" y="5013360"/>
            <a:chExt cx="2286000" cy="571320"/>
          </a:xfrm>
        </p:grpSpPr>
        <p:grpSp>
          <p:nvGrpSpPr>
            <p:cNvPr id="156" name=""/>
            <p:cNvGrpSpPr/>
            <p:nvPr/>
          </p:nvGrpSpPr>
          <p:grpSpPr>
            <a:xfrm>
              <a:off x="3780000" y="5013360"/>
              <a:ext cx="1373400" cy="571320"/>
              <a:chOff x="3780000" y="5013360"/>
              <a:chExt cx="1373400" cy="571320"/>
            </a:xfrm>
          </p:grpSpPr>
          <p:sp>
            <p:nvSpPr>
              <p:cNvPr id="157" name=""/>
              <p:cNvSpPr/>
              <p:nvPr/>
            </p:nvSpPr>
            <p:spPr>
              <a:xfrm>
                <a:off x="3780000" y="5013360"/>
                <a:ext cx="456840" cy="5713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239360" y="5013360"/>
                <a:ext cx="456840" cy="5713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696560" y="5013360"/>
                <a:ext cx="456840" cy="5713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5608800" y="5013360"/>
              <a:ext cx="457200" cy="5713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51600" y="5013360"/>
              <a:ext cx="457200" cy="5713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62" name=""/>
          <p:cNvCxnSpPr>
            <a:stCxn id="144" idx="3"/>
            <a:endCxn id="140" idx="1"/>
          </p:cNvCxnSpPr>
          <p:nvPr/>
        </p:nvCxnSpPr>
        <p:spPr>
          <a:xfrm>
            <a:off x="1154160" y="2130120"/>
            <a:ext cx="813600" cy="687960"/>
          </a:xfrm>
          <a:prstGeom prst="bentConnector3">
            <a:avLst>
              <a:gd name="adj1" fmla="val 49977"/>
            </a:avLst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63" name=""/>
          <p:cNvCxnSpPr>
            <a:stCxn id="141" idx="2"/>
            <a:endCxn id="164" idx="1"/>
          </p:cNvCxnSpPr>
          <p:nvPr/>
        </p:nvCxnSpPr>
        <p:spPr>
          <a:xfrm flipH="1" rot="16200000">
            <a:off x="2593800" y="3333600"/>
            <a:ext cx="1353240" cy="9939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65" name=""/>
          <p:cNvCxnSpPr>
            <a:stCxn id="140" idx="2"/>
            <a:endCxn id="157" idx="1"/>
          </p:cNvCxnSpPr>
          <p:nvPr/>
        </p:nvCxnSpPr>
        <p:spPr>
          <a:xfrm flipH="1" rot="16200000">
            <a:off x="1931760" y="3464640"/>
            <a:ext cx="2145600" cy="152460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66" name=""/>
          <p:cNvCxnSpPr>
            <a:stCxn id="142" idx="2"/>
            <a:endCxn id="167" idx="1"/>
          </p:cNvCxnSpPr>
          <p:nvPr/>
        </p:nvCxnSpPr>
        <p:spPr>
          <a:xfrm flipH="1" rot="16200000">
            <a:off x="3253320" y="3200760"/>
            <a:ext cx="561240" cy="4672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grpSp>
        <p:nvGrpSpPr>
          <p:cNvPr id="168" name=""/>
          <p:cNvGrpSpPr/>
          <p:nvPr/>
        </p:nvGrpSpPr>
        <p:grpSpPr>
          <a:xfrm>
            <a:off x="3780000" y="4221000"/>
            <a:ext cx="1373040" cy="571680"/>
            <a:chOff x="3780000" y="4221000"/>
            <a:chExt cx="1373040" cy="571680"/>
          </a:xfrm>
        </p:grpSpPr>
        <p:sp>
          <p:nvSpPr>
            <p:cNvPr id="164" name=""/>
            <p:cNvSpPr/>
            <p:nvPr/>
          </p:nvSpPr>
          <p:spPr>
            <a:xfrm>
              <a:off x="3780000" y="4221000"/>
              <a:ext cx="456840" cy="5716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239000" y="4221000"/>
              <a:ext cx="456840" cy="5716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696200" y="4221000"/>
              <a:ext cx="456840" cy="5716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3780000" y="3429000"/>
            <a:ext cx="1828800" cy="571680"/>
            <a:chOff x="3780000" y="3429000"/>
            <a:chExt cx="1828800" cy="571680"/>
          </a:xfrm>
        </p:grpSpPr>
        <p:grpSp>
          <p:nvGrpSpPr>
            <p:cNvPr id="172" name=""/>
            <p:cNvGrpSpPr/>
            <p:nvPr/>
          </p:nvGrpSpPr>
          <p:grpSpPr>
            <a:xfrm>
              <a:off x="3780000" y="3429000"/>
              <a:ext cx="1373400" cy="571680"/>
              <a:chOff x="3780000" y="3429000"/>
              <a:chExt cx="1373400" cy="571680"/>
            </a:xfrm>
          </p:grpSpPr>
          <p:sp>
            <p:nvSpPr>
              <p:cNvPr id="167" name=""/>
              <p:cNvSpPr/>
              <p:nvPr/>
            </p:nvSpPr>
            <p:spPr>
              <a:xfrm>
                <a:off x="3780000" y="3429000"/>
                <a:ext cx="456840" cy="5716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239360" y="3429000"/>
                <a:ext cx="457200" cy="5716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696560" y="3429000"/>
                <a:ext cx="456840" cy="5716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5151600" y="3429000"/>
              <a:ext cx="457200" cy="5716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443640" y="479736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[0]=NUL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43640" y="515772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[1]=NUL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43640" y="551664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[2]=NUL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564000" y="573408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[0][2]=64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716360" y="508464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564000" y="616572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[1][0]=57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780000" y="4292640"/>
            <a:ext cx="50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37432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**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987640" y="1484280"/>
            <a:ext cx="39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=(int*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malloc(sizeof(int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*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948360" y="907920"/>
            <a:ext cx="17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3300"/>
                </a:solidFill>
                <a:latin typeface="Tahoma"/>
              </a:rPr>
              <a:t>p</a:t>
            </a:r>
            <a:r>
              <a:rPr b="0" lang="en-US" sz="2000" spc="-1" strike="noStrike">
                <a:solidFill>
                  <a:srgbClr val="993300"/>
                </a:solidFill>
                <a:latin typeface="Tahoma"/>
              </a:rPr>
              <a:t>o</a:t>
            </a:r>
            <a:r>
              <a:rPr b="0" lang="cs-CZ" sz="2000" spc="-1" strike="noStrike">
                <a:solidFill>
                  <a:srgbClr val="993300"/>
                </a:solidFill>
                <a:latin typeface="Tahoma"/>
              </a:rPr>
              <a:t>čet řád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6516360" y="1268280"/>
            <a:ext cx="1150920" cy="360360"/>
          </a:xfrm>
          <a:prstGeom prst="line">
            <a:avLst/>
          </a:prstGeom>
          <a:ln w="19080">
            <a:solidFill>
              <a:srgbClr val="9933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093080" y="630864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p=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L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156360" y="350028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ee(p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156360" y="386064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ee(p[1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56360" y="422100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ee(p[2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877080" y="595008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ee(p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5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9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1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5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7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9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1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3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5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9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1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Srovná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5280" y="98100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tické vícerozměrné p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24360" y="1341360"/>
            <a:ext cx="0" cy="5183280"/>
          </a:xfrm>
          <a:prstGeom prst="line">
            <a:avLst/>
          </a:prstGeom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27040" y="1343160"/>
            <a:ext cx="216000" cy="28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557800" y="602136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Tahoma"/>
              </a:rPr>
              <a:t>Zásobní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65480" y="602136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Tahoma"/>
              </a:rPr>
              <a:t>Hal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3"/>
            <a:endCxn id="199" idx="1"/>
          </p:cNvCxnSpPr>
          <p:nvPr/>
        </p:nvCxnSpPr>
        <p:spPr>
          <a:xfrm>
            <a:off x="755280" y="1483920"/>
            <a:ext cx="407160" cy="42948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grpSp>
        <p:nvGrpSpPr>
          <p:cNvPr id="200" name=""/>
          <p:cNvGrpSpPr/>
          <p:nvPr/>
        </p:nvGrpSpPr>
        <p:grpSpPr>
          <a:xfrm>
            <a:off x="1174680" y="1558800"/>
            <a:ext cx="2592360" cy="747720"/>
            <a:chOff x="1174680" y="1558800"/>
            <a:chExt cx="2592360" cy="747720"/>
          </a:xfrm>
        </p:grpSpPr>
        <p:grpSp>
          <p:nvGrpSpPr>
            <p:cNvPr id="201" name=""/>
            <p:cNvGrpSpPr/>
            <p:nvPr/>
          </p:nvGrpSpPr>
          <p:grpSpPr>
            <a:xfrm>
              <a:off x="2042280" y="1771920"/>
              <a:ext cx="857160" cy="282600"/>
              <a:chOff x="2042280" y="1771920"/>
              <a:chExt cx="857160" cy="28260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2042280" y="1771920"/>
                <a:ext cx="643680" cy="282600"/>
                <a:chOff x="2042280" y="1771920"/>
                <a:chExt cx="643680" cy="28260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2042280" y="1771920"/>
                  <a:ext cx="214200" cy="282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2257560" y="1771920"/>
                  <a:ext cx="214200" cy="282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2471760" y="1771920"/>
                  <a:ext cx="214200" cy="282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6" name=""/>
              <p:cNvSpPr/>
              <p:nvPr/>
            </p:nvSpPr>
            <p:spPr>
              <a:xfrm>
                <a:off x="2685240" y="1771920"/>
                <a:ext cx="214200" cy="282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1174680" y="1771920"/>
              <a:ext cx="857160" cy="282600"/>
              <a:chOff x="1174680" y="1771920"/>
              <a:chExt cx="857160" cy="282600"/>
            </a:xfrm>
          </p:grpSpPr>
          <p:grpSp>
            <p:nvGrpSpPr>
              <p:cNvPr id="208" name=""/>
              <p:cNvGrpSpPr/>
              <p:nvPr/>
            </p:nvGrpSpPr>
            <p:grpSpPr>
              <a:xfrm>
                <a:off x="1174680" y="1771920"/>
                <a:ext cx="643680" cy="282600"/>
                <a:chOff x="1174680" y="1771920"/>
                <a:chExt cx="643680" cy="28260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1174680" y="1771920"/>
                  <a:ext cx="214200" cy="282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1389960" y="1771920"/>
                  <a:ext cx="214200" cy="282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1604160" y="1771920"/>
                  <a:ext cx="214200" cy="282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1" name=""/>
              <p:cNvSpPr/>
              <p:nvPr/>
            </p:nvSpPr>
            <p:spPr>
              <a:xfrm>
                <a:off x="1817640" y="1771920"/>
                <a:ext cx="214200" cy="282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2909880" y="1771920"/>
              <a:ext cx="857160" cy="282600"/>
              <a:chOff x="2909880" y="1771920"/>
              <a:chExt cx="857160" cy="282600"/>
            </a:xfrm>
          </p:grpSpPr>
          <p:grpSp>
            <p:nvGrpSpPr>
              <p:cNvPr id="213" name=""/>
              <p:cNvGrpSpPr/>
              <p:nvPr/>
            </p:nvGrpSpPr>
            <p:grpSpPr>
              <a:xfrm>
                <a:off x="2909880" y="1771920"/>
                <a:ext cx="643680" cy="282600"/>
                <a:chOff x="2909880" y="1771920"/>
                <a:chExt cx="643680" cy="28260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2909880" y="1771920"/>
                  <a:ext cx="214200" cy="282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3125160" y="1771920"/>
                  <a:ext cx="214200" cy="282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3339360" y="1771920"/>
                  <a:ext cx="214200" cy="282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7" name=""/>
              <p:cNvSpPr/>
              <p:nvPr/>
            </p:nvSpPr>
            <p:spPr>
              <a:xfrm>
                <a:off x="3552840" y="1771920"/>
                <a:ext cx="214200" cy="282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" name=""/>
            <p:cNvSpPr/>
            <p:nvPr/>
          </p:nvSpPr>
          <p:spPr>
            <a:xfrm>
              <a:off x="2036160" y="1558800"/>
              <a:ext cx="0" cy="711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903040" y="1594800"/>
              <a:ext cx="0" cy="711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324000" y="3645000"/>
            <a:ext cx="50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ointer na p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4000" y="2276640"/>
            <a:ext cx="50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ole pointer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4000" y="4869000"/>
            <a:ext cx="50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ointer na poi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835280" y="4214880"/>
            <a:ext cx="215640" cy="28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4" name=""/>
          <p:cNvCxnSpPr>
            <a:stCxn id="223" idx="3"/>
            <a:endCxn id="225" idx="1"/>
          </p:cNvCxnSpPr>
          <p:nvPr/>
        </p:nvCxnSpPr>
        <p:spPr>
          <a:xfrm>
            <a:off x="2063880" y="4355640"/>
            <a:ext cx="3216960" cy="3960"/>
          </a:xfrm>
          <a:prstGeom prst="bentConnector3">
            <a:avLst>
              <a:gd name="adj1" fmla="val 49994"/>
            </a:avLst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grpSp>
        <p:nvGrpSpPr>
          <p:cNvPr id="226" name=""/>
          <p:cNvGrpSpPr/>
          <p:nvPr/>
        </p:nvGrpSpPr>
        <p:grpSpPr>
          <a:xfrm>
            <a:off x="5292720" y="4005360"/>
            <a:ext cx="2592360" cy="747720"/>
            <a:chOff x="5292720" y="4005360"/>
            <a:chExt cx="2592360" cy="747720"/>
          </a:xfrm>
        </p:grpSpPr>
        <p:grpSp>
          <p:nvGrpSpPr>
            <p:cNvPr id="227" name=""/>
            <p:cNvGrpSpPr/>
            <p:nvPr/>
          </p:nvGrpSpPr>
          <p:grpSpPr>
            <a:xfrm>
              <a:off x="6160320" y="4218480"/>
              <a:ext cx="857160" cy="282600"/>
              <a:chOff x="6160320" y="4218480"/>
              <a:chExt cx="857160" cy="282600"/>
            </a:xfrm>
          </p:grpSpPr>
          <p:grpSp>
            <p:nvGrpSpPr>
              <p:cNvPr id="228" name=""/>
              <p:cNvGrpSpPr/>
              <p:nvPr/>
            </p:nvGrpSpPr>
            <p:grpSpPr>
              <a:xfrm>
                <a:off x="6160320" y="4218480"/>
                <a:ext cx="643680" cy="282600"/>
                <a:chOff x="6160320" y="4218480"/>
                <a:chExt cx="643680" cy="28260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6160320" y="4218480"/>
                  <a:ext cx="214200" cy="282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6375600" y="4218480"/>
                  <a:ext cx="214200" cy="282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589800" y="4218480"/>
                  <a:ext cx="214200" cy="282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2" name=""/>
              <p:cNvSpPr/>
              <p:nvPr/>
            </p:nvSpPr>
            <p:spPr>
              <a:xfrm>
                <a:off x="6803280" y="4218480"/>
                <a:ext cx="214200" cy="282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5292720" y="4218480"/>
              <a:ext cx="857160" cy="282600"/>
              <a:chOff x="5292720" y="4218480"/>
              <a:chExt cx="857160" cy="28260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5292720" y="4218480"/>
                <a:ext cx="643680" cy="282600"/>
                <a:chOff x="5292720" y="4218480"/>
                <a:chExt cx="643680" cy="28260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292720" y="4218480"/>
                  <a:ext cx="214200" cy="282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5508000" y="4218480"/>
                  <a:ext cx="214200" cy="282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5722200" y="4218480"/>
                  <a:ext cx="214200" cy="282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7" name=""/>
              <p:cNvSpPr/>
              <p:nvPr/>
            </p:nvSpPr>
            <p:spPr>
              <a:xfrm>
                <a:off x="5935680" y="4218480"/>
                <a:ext cx="214200" cy="282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7027920" y="4218480"/>
              <a:ext cx="857160" cy="282600"/>
              <a:chOff x="7027920" y="4218480"/>
              <a:chExt cx="857160" cy="282600"/>
            </a:xfrm>
          </p:grpSpPr>
          <p:grpSp>
            <p:nvGrpSpPr>
              <p:cNvPr id="239" name=""/>
              <p:cNvGrpSpPr/>
              <p:nvPr/>
            </p:nvGrpSpPr>
            <p:grpSpPr>
              <a:xfrm>
                <a:off x="7027920" y="4218480"/>
                <a:ext cx="643680" cy="282600"/>
                <a:chOff x="7027920" y="4218480"/>
                <a:chExt cx="643680" cy="28260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7027920" y="4218480"/>
                  <a:ext cx="214200" cy="282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7243200" y="4218480"/>
                  <a:ext cx="214200" cy="282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7457400" y="4218480"/>
                  <a:ext cx="214200" cy="282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3" name=""/>
              <p:cNvSpPr/>
              <p:nvPr/>
            </p:nvSpPr>
            <p:spPr>
              <a:xfrm>
                <a:off x="7670880" y="4218480"/>
                <a:ext cx="214200" cy="282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4" name=""/>
            <p:cNvSpPr/>
            <p:nvPr/>
          </p:nvSpPr>
          <p:spPr>
            <a:xfrm>
              <a:off x="6154200" y="4005360"/>
              <a:ext cx="0" cy="711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021080" y="4041360"/>
              <a:ext cx="0" cy="711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2627280" y="2492280"/>
            <a:ext cx="730440" cy="289080"/>
            <a:chOff x="2627280" y="2492280"/>
            <a:chExt cx="730440" cy="289080"/>
          </a:xfrm>
        </p:grpSpPr>
        <p:sp>
          <p:nvSpPr>
            <p:cNvPr id="247" name=""/>
            <p:cNvSpPr/>
            <p:nvPr/>
          </p:nvSpPr>
          <p:spPr>
            <a:xfrm>
              <a:off x="2627280" y="2492280"/>
              <a:ext cx="243000" cy="2890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71360" y="2492280"/>
              <a:ext cx="243000" cy="2890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114720" y="2492280"/>
              <a:ext cx="243000" cy="2890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1116000" y="2781360"/>
            <a:ext cx="216000" cy="28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1" name=""/>
          <p:cNvCxnSpPr>
            <a:stCxn id="250" idx="3"/>
            <a:endCxn id="247" idx="1"/>
          </p:cNvCxnSpPr>
          <p:nvPr/>
        </p:nvCxnSpPr>
        <p:spPr>
          <a:xfrm flipV="1">
            <a:off x="1344600" y="2636280"/>
            <a:ext cx="1270800" cy="286200"/>
          </a:xfrm>
          <a:prstGeom prst="bentConnector3">
            <a:avLst>
              <a:gd name="adj1" fmla="val 49985"/>
            </a:avLst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252" name=""/>
          <p:cNvCxnSpPr>
            <a:stCxn id="248" idx="2"/>
            <a:endCxn id="253" idx="1"/>
          </p:cNvCxnSpPr>
          <p:nvPr/>
        </p:nvCxnSpPr>
        <p:spPr>
          <a:xfrm flipH="1" rot="16200000">
            <a:off x="3890880" y="1896480"/>
            <a:ext cx="492840" cy="228672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254" name=""/>
          <p:cNvCxnSpPr>
            <a:stCxn id="247" idx="2"/>
            <a:endCxn id="255" idx="1"/>
          </p:cNvCxnSpPr>
          <p:nvPr/>
        </p:nvCxnSpPr>
        <p:spPr>
          <a:xfrm flipH="1" rot="16200000">
            <a:off x="3551760" y="1990440"/>
            <a:ext cx="924840" cy="25311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256" name=""/>
          <p:cNvCxnSpPr>
            <a:stCxn id="249" idx="2"/>
            <a:endCxn id="257" idx="1"/>
          </p:cNvCxnSpPr>
          <p:nvPr/>
        </p:nvCxnSpPr>
        <p:spPr>
          <a:xfrm flipH="1" rot="16200000">
            <a:off x="4228920" y="1801080"/>
            <a:ext cx="59400" cy="20440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grpSp>
        <p:nvGrpSpPr>
          <p:cNvPr id="258" name=""/>
          <p:cNvGrpSpPr/>
          <p:nvPr/>
        </p:nvGrpSpPr>
        <p:grpSpPr>
          <a:xfrm>
            <a:off x="5292720" y="3141720"/>
            <a:ext cx="729720" cy="288720"/>
            <a:chOff x="5292720" y="3141720"/>
            <a:chExt cx="729720" cy="288720"/>
          </a:xfrm>
        </p:grpSpPr>
        <p:sp>
          <p:nvSpPr>
            <p:cNvPr id="253" name=""/>
            <p:cNvSpPr/>
            <p:nvPr/>
          </p:nvSpPr>
          <p:spPr>
            <a:xfrm>
              <a:off x="5292720" y="3141720"/>
              <a:ext cx="242640" cy="288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536800" y="3141720"/>
              <a:ext cx="243000" cy="288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779800" y="3141720"/>
              <a:ext cx="242640" cy="288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5292720" y="3573360"/>
            <a:ext cx="1150920" cy="289080"/>
            <a:chOff x="5292720" y="3573360"/>
            <a:chExt cx="1150920" cy="289080"/>
          </a:xfrm>
        </p:grpSpPr>
        <p:grpSp>
          <p:nvGrpSpPr>
            <p:cNvPr id="262" name=""/>
            <p:cNvGrpSpPr/>
            <p:nvPr/>
          </p:nvGrpSpPr>
          <p:grpSpPr>
            <a:xfrm>
              <a:off x="5292720" y="3573360"/>
              <a:ext cx="729720" cy="289080"/>
              <a:chOff x="5292720" y="3573360"/>
              <a:chExt cx="729720" cy="289080"/>
            </a:xfrm>
          </p:grpSpPr>
          <p:sp>
            <p:nvSpPr>
              <p:cNvPr id="255" name=""/>
              <p:cNvSpPr/>
              <p:nvPr/>
            </p:nvSpPr>
            <p:spPr>
              <a:xfrm>
                <a:off x="5292720" y="3573360"/>
                <a:ext cx="242640" cy="289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536800" y="3573360"/>
                <a:ext cx="243000" cy="289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779800" y="3573360"/>
                <a:ext cx="242640" cy="289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>
              <a:off x="6227640" y="3573360"/>
              <a:ext cx="216000" cy="282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012000" y="3573360"/>
              <a:ext cx="215640" cy="282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5292720" y="2708280"/>
            <a:ext cx="934920" cy="289080"/>
            <a:chOff x="5292720" y="2708280"/>
            <a:chExt cx="934920" cy="289080"/>
          </a:xfrm>
        </p:grpSpPr>
        <p:grpSp>
          <p:nvGrpSpPr>
            <p:cNvPr id="268" name=""/>
            <p:cNvGrpSpPr/>
            <p:nvPr/>
          </p:nvGrpSpPr>
          <p:grpSpPr>
            <a:xfrm>
              <a:off x="5292720" y="2708280"/>
              <a:ext cx="729720" cy="289080"/>
              <a:chOff x="5292720" y="2708280"/>
              <a:chExt cx="729720" cy="289080"/>
            </a:xfrm>
          </p:grpSpPr>
          <p:sp>
            <p:nvSpPr>
              <p:cNvPr id="257" name=""/>
              <p:cNvSpPr/>
              <p:nvPr/>
            </p:nvSpPr>
            <p:spPr>
              <a:xfrm>
                <a:off x="5292720" y="2708280"/>
                <a:ext cx="242640" cy="289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536800" y="2708280"/>
                <a:ext cx="243000" cy="289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779800" y="2708280"/>
                <a:ext cx="242640" cy="289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>
              <a:off x="6012000" y="2708280"/>
              <a:ext cx="215640" cy="282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5292720" y="4941720"/>
            <a:ext cx="729720" cy="290520"/>
            <a:chOff x="5292720" y="4941720"/>
            <a:chExt cx="729720" cy="290520"/>
          </a:xfrm>
        </p:grpSpPr>
        <p:sp>
          <p:nvSpPr>
            <p:cNvPr id="273" name=""/>
            <p:cNvSpPr/>
            <p:nvPr/>
          </p:nvSpPr>
          <p:spPr>
            <a:xfrm>
              <a:off x="5292720" y="4941720"/>
              <a:ext cx="242640" cy="290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536800" y="4941720"/>
              <a:ext cx="243000" cy="290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779800" y="4941720"/>
              <a:ext cx="242640" cy="290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3059280" y="4941720"/>
            <a:ext cx="215640" cy="28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7" name=""/>
          <p:cNvCxnSpPr>
            <a:stCxn id="276" idx="3"/>
            <a:endCxn id="273" idx="1"/>
          </p:cNvCxnSpPr>
          <p:nvPr/>
        </p:nvCxnSpPr>
        <p:spPr>
          <a:xfrm>
            <a:off x="3287880" y="5084280"/>
            <a:ext cx="1992600" cy="3960"/>
          </a:xfrm>
          <a:prstGeom prst="bentConnector3">
            <a:avLst>
              <a:gd name="adj1" fmla="val 49963"/>
            </a:avLst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278" name=""/>
          <p:cNvCxnSpPr>
            <a:stCxn id="274" idx="2"/>
            <a:endCxn id="279" idx="1"/>
          </p:cNvCxnSpPr>
          <p:nvPr/>
        </p:nvCxnSpPr>
        <p:spPr>
          <a:xfrm flipH="1" rot="16200000">
            <a:off x="6052320" y="4852080"/>
            <a:ext cx="635760" cy="14212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280" name=""/>
          <p:cNvCxnSpPr>
            <a:stCxn id="273" idx="2"/>
            <a:endCxn id="281" idx="1"/>
          </p:cNvCxnSpPr>
          <p:nvPr/>
        </p:nvCxnSpPr>
        <p:spPr>
          <a:xfrm flipH="1" rot="16200000">
            <a:off x="5713200" y="4945680"/>
            <a:ext cx="1067400" cy="166572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282" name=""/>
          <p:cNvCxnSpPr>
            <a:stCxn id="275" idx="2"/>
            <a:endCxn id="283" idx="1"/>
          </p:cNvCxnSpPr>
          <p:nvPr/>
        </p:nvCxnSpPr>
        <p:spPr>
          <a:xfrm flipH="1" rot="16200000">
            <a:off x="6426000" y="4720680"/>
            <a:ext cx="130680" cy="117864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grpSp>
        <p:nvGrpSpPr>
          <p:cNvPr id="284" name=""/>
          <p:cNvGrpSpPr/>
          <p:nvPr/>
        </p:nvGrpSpPr>
        <p:grpSpPr>
          <a:xfrm>
            <a:off x="7093080" y="5734080"/>
            <a:ext cx="729720" cy="290520"/>
            <a:chOff x="7093080" y="5734080"/>
            <a:chExt cx="729720" cy="290520"/>
          </a:xfrm>
        </p:grpSpPr>
        <p:sp>
          <p:nvSpPr>
            <p:cNvPr id="279" name=""/>
            <p:cNvSpPr/>
            <p:nvPr/>
          </p:nvSpPr>
          <p:spPr>
            <a:xfrm>
              <a:off x="7093080" y="5734080"/>
              <a:ext cx="242640" cy="290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337160" y="5734080"/>
              <a:ext cx="243000" cy="290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580160" y="5734080"/>
              <a:ext cx="242640" cy="290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7093080" y="6165720"/>
            <a:ext cx="1150920" cy="290160"/>
            <a:chOff x="7093080" y="6165720"/>
            <a:chExt cx="1150920" cy="290160"/>
          </a:xfrm>
        </p:grpSpPr>
        <p:grpSp>
          <p:nvGrpSpPr>
            <p:cNvPr id="288" name=""/>
            <p:cNvGrpSpPr/>
            <p:nvPr/>
          </p:nvGrpSpPr>
          <p:grpSpPr>
            <a:xfrm>
              <a:off x="7093080" y="6165720"/>
              <a:ext cx="729720" cy="290160"/>
              <a:chOff x="7093080" y="6165720"/>
              <a:chExt cx="729720" cy="290160"/>
            </a:xfrm>
          </p:grpSpPr>
          <p:sp>
            <p:nvSpPr>
              <p:cNvPr id="281" name=""/>
              <p:cNvSpPr/>
              <p:nvPr/>
            </p:nvSpPr>
            <p:spPr>
              <a:xfrm>
                <a:off x="7093080" y="6165720"/>
                <a:ext cx="242640" cy="2901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337160" y="6165720"/>
                <a:ext cx="243000" cy="2901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580160" y="6165720"/>
                <a:ext cx="242640" cy="2901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1" name=""/>
            <p:cNvSpPr/>
            <p:nvPr/>
          </p:nvSpPr>
          <p:spPr>
            <a:xfrm>
              <a:off x="8028000" y="6165720"/>
              <a:ext cx="216000" cy="2836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2360" y="6165720"/>
              <a:ext cx="215640" cy="2836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7093080" y="5229360"/>
            <a:ext cx="934920" cy="290160"/>
            <a:chOff x="7093080" y="5229360"/>
            <a:chExt cx="934920" cy="290160"/>
          </a:xfrm>
        </p:grpSpPr>
        <p:grpSp>
          <p:nvGrpSpPr>
            <p:cNvPr id="294" name=""/>
            <p:cNvGrpSpPr/>
            <p:nvPr/>
          </p:nvGrpSpPr>
          <p:grpSpPr>
            <a:xfrm>
              <a:off x="7093080" y="5229360"/>
              <a:ext cx="729720" cy="290160"/>
              <a:chOff x="7093080" y="5229360"/>
              <a:chExt cx="729720" cy="290160"/>
            </a:xfrm>
          </p:grpSpPr>
          <p:sp>
            <p:nvSpPr>
              <p:cNvPr id="283" name=""/>
              <p:cNvSpPr/>
              <p:nvPr/>
            </p:nvSpPr>
            <p:spPr>
              <a:xfrm>
                <a:off x="7093080" y="5229360"/>
                <a:ext cx="242640" cy="2901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7337160" y="5229360"/>
                <a:ext cx="243000" cy="2901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580160" y="5229360"/>
                <a:ext cx="242640" cy="2901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7" name=""/>
            <p:cNvSpPr/>
            <p:nvPr/>
          </p:nvSpPr>
          <p:spPr>
            <a:xfrm>
              <a:off x="7812360" y="5229360"/>
              <a:ext cx="215640" cy="2836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9:55:31Z</dcterms:created>
  <dc:creator>Monika</dc:creator>
  <dc:description/>
  <dc:language>en-US</dc:language>
  <cp:lastModifiedBy>Monika</cp:lastModifiedBy>
  <dcterms:modified xsi:type="dcterms:W3CDTF">2008-03-12T21:28:04Z</dcterms:modified>
  <cp:revision>10</cp:revision>
  <dc:subject/>
  <dc:title>Vícerozměrné  dynamické pole</dc:title>
</cp:coreProperties>
</file>